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CE6-D8D8-4579-97D2-EF7CF525A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C89-F827-4B1B-BE54-D1AA6BE538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1CE5-98CA-40AA-94AC-1A8165AE36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0E5-1DB5-41DF-9B63-FDFA813E1F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645-E8C8-4409-A414-4DF98AF348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265-0017-467F-9078-DB677C8488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630-748F-4054-8518-DC7BE99F5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193-809F-48CC-8AA7-16AC6D2C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712-BC68-4227-9F39-6CA18EF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FF3-F19A-41DD-AA47-9D4F76E7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23F-AA4D-453F-BBAF-890BDEC5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F10C-B9B2-4C09-B0CB-B7E26A9B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6B1D-3699-414F-9B6E-FCDE040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D0D9-8472-43A1-A037-0688AD52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F03E-1711-4C28-BD49-C1E78C87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89E-B640-4D80-B359-28254F60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FA85-2F60-47BE-A58B-D56EF0B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B210-C63F-44F7-BBDA-B7C5348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1B3-05F6-4043-BCF7-2CADC47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11BF-F447-4876-B412-D50BBBB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9704-40C1-4B3D-9E30-33E1246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28DC-C3F9-46FE-AB1E-D25EA8B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044B-0B01-4759-9752-DD945038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44D-001F-470A-90A5-F7C28276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4B7-7D52-4FED-B993-4CF9699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5E4-A616-4013-8DC0-24B9F44E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95D-B8C1-4054-8BB5-C603EC9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A67-AEE3-4307-B8AC-06296BE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B9A-DB49-48F7-AC0C-1C05ECE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E69-8BAA-4B26-8F9C-62370268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812-B574-49E3-8668-C13FC7C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91B-73BD-4487-BE0E-5B320A9E57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34D-0381-4626-B0D0-DFF13106AF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aganoffond.ru/" TargetMode="External"/><Relationship Id="rId2" Type="http://schemas.openxmlformats.org/officeDocument/2006/relationships/hyperlink" Target="mailto:gastrograd@yandex.r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661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Анализ расходов на обслуживание бюве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2360" y="1673280"/>
            <a:ext cx="5905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оритетные расходы- оборуд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нтаж оборудовани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Обслуживание БЮВЕ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плата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з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1 литр мин.во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включая доставку мин. воды, замена углекислот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тех. обслуживание</a:t>
            </a:r>
            <a:r>
              <a:rPr b="1" lang="ru-RU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устройств (краны, трубопроводы, штуцера, редуктор и другие составные час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661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Анализ расходов на организацию бюве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42920" y="1557360"/>
            <a:ext cx="7345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тационарный-ВАРИАНТ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расх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Ёмкость 1 – 2 куб.м., изготовление, доставка, установка, монтаж водопроводов и газобаллонного, УФО, кондиционир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формление бювета по отдельному договор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Сервисное обслуживание бювета из расчета  за литр минеральной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4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Ресурсы и исполнител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507160" cy="12524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76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ad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adadff"/>
                </a:solidFill>
                <a:latin typeface="New Century Schoolbook"/>
              </a:rPr>
              <a:t>Для организации БЮВЕТА НЕОБХОДИМО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47640" y="4653000"/>
            <a:ext cx="6121440" cy="16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42960" y="2428920"/>
            <a:ext cx="7704000" cy="54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ff2b2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втомобильный подъезд к бюв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2b2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мещение  6 кв.м.(1 ёмкость), потолок высотой не менее 3 метров, дверной проём не менее 90 с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2b2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лектро и водоснабж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2b2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омната для отпуска мин.воды (от 16 кв.м.), где размещается питьевая колон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2b2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Наши сильные сторон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 fontScale="92000"/>
          </a:bodyPr>
          <a:p>
            <a:pPr marL="315360" indent="-315360" algn="ctr">
              <a:lnSpc>
                <a:spcPct val="150000"/>
              </a:lnSpc>
              <a:spcBef>
                <a:spcPts val="901"/>
              </a:spcBef>
              <a:buClr>
                <a:srgbClr val="ffcc66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191"/>
                </a:solidFill>
                <a:latin typeface="Times New Roman"/>
              </a:rPr>
              <a:t>Мощный лечебно-профилактический фактор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150000"/>
              </a:lnSpc>
              <a:spcBef>
                <a:spcPts val="901"/>
              </a:spcBef>
              <a:buClr>
                <a:srgbClr val="ffcc66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191"/>
                </a:solidFill>
                <a:latin typeface="Times New Roman"/>
              </a:rPr>
              <a:t>Расширение услуг, предоставляемых санаториями горо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150000"/>
              </a:lnSpc>
              <a:spcBef>
                <a:spcPts val="901"/>
              </a:spcBef>
              <a:buClr>
                <a:srgbClr val="ffcc66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191"/>
                </a:solidFill>
                <a:latin typeface="Times New Roman"/>
              </a:rPr>
              <a:t>Дополнительная реклам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Координа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ач гастроэнтернолог-эндоскоп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ганова Игорь Вяче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Со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. 8 928 454 22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vaganoffond.r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еральные  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-mai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окладчи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gastrograd@yandex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5306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810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8:17:59Z</dcterms:created>
  <dc:creator>Татьяна</dc:creator>
  <dc:description/>
  <dc:language>en-US</dc:language>
  <cp:lastModifiedBy>км</cp:lastModifiedBy>
  <dcterms:modified xsi:type="dcterms:W3CDTF">2023-03-25T06:42:21Z</dcterms:modified>
  <cp:revision>66</cp:revision>
  <dc:subject/>
  <dc:title>Слайд 1</dc:title>
</cp:coreProperties>
</file>