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BF63-9E62-4B86-9236-38FA09F5C4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40D7-01D8-4E32-8378-8AE4699F8D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3080-3E67-4BB7-A1B1-E61A6481E7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AB68-7B95-4984-8FF3-217217EDA9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2722-AAC4-4EDA-9FB3-11FE900F39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EED3-542F-46E6-A02B-E0AD0A3EA4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2C2F-254E-49BF-9B07-001D74890E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EE9B-058C-4F4D-8CD5-2EFB71EE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301-582A-4813-950B-8C0287F6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F9D-BFFC-494F-AC12-F15FAF66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F57-95F3-415E-AA94-2403488C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75D5-54C6-4CF5-A675-73D3A88C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56F3-6C18-4944-AE9F-198A59CD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13E7-AA8F-4A07-B3E1-78FF0A76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6527-B573-48D1-B60F-A5191D17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42BF-BA57-46F8-BFB6-178E0DAA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B877-D72A-4249-BF3F-BC2A17D5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82EC-6240-49BB-9765-9A0ABBD2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2957-6910-4348-A04A-500D0375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0661-C315-4ED1-BC7B-DE187EB8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FF70-0763-4A35-98A3-8CB9804B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94DD-24E3-4429-A945-4ACE41EF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3D9D-EBE0-4DFA-91C5-D13FF350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EE5C-F11F-4CBB-BF80-DD552A7B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EC53-7B9A-4FD4-808B-1C02F255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BBEB-F105-4F18-A72E-DC0DB35C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CBAE-4BB6-40B0-9B8D-C5CD5F40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D24-1716-413A-BF1C-01BD72EE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49C-A3C9-4472-BA07-1E26D31C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F36-4575-41DC-966C-12454CA2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01C-99BC-48EA-B3A8-B80E92E4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F428-0EEC-4EE5-A965-DFCC0E0E382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48F2-3F73-44B1-896A-4757DA4C54C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84280" y="34290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720000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лечебное применение минеральных вод курорта Соч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179280" y="1844640"/>
            <a:ext cx="867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solidFill>
                    <a:srgbClr val="993300"/>
                  </a:solidFill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5050">
                      <a:alpha val="80000"/>
                    </a:srgbClr>
                  </a:outerShdw>
                </a:effectLst>
                <a:latin typeface="Arial Black"/>
              </a:rPr>
              <a:t>"ПИТЬЕВОЙ КУРОРТ"</a:t>
            </a:r>
            <a:endParaRPr b="1" lang="en-US" sz="5400" spc="1" strike="noStrike">
              <a:ln w="0">
                <a:solidFill>
                  <a:srgbClr val="993300"/>
                </a:solidFill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505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476360" y="2708280"/>
            <a:ext cx="640080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в городе Соч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835200" y="5516640"/>
            <a:ext cx="77691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Times New Roman"/>
              </a:rPr>
              <a:t>ДОКЛАДЧИК: ВРАЧ  ГАСТРОЭНТЕРОЛОГ-ЭНДОСКОПИСТ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Ваганов И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539640" y="0"/>
            <a:ext cx="8136000" cy="90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Докт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Ваганов Игорь Вячеслав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611280" y="982800"/>
            <a:ext cx="813600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2b2b"/>
                </a:solidFill>
                <a:latin typeface="Times New Roman"/>
              </a:rPr>
              <a:t>ПРЕДСТАВЛЯ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Ессентуки или Сочи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очинская»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кважина 2-р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 6,5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 0,005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F 0,006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3Bo3 0,066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HCO3 + Co3) 48 Cl 4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____________________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pH 8,54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 16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a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+ К)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9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Ессентуки 4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 8,7    Со2 1,7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HCo3 60 Cl 40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______________                           pH 6,6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Na + K) 9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New Century Schoolbook"/>
              </a:rPr>
              <a:t>Цели и направления развит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здоровливание нац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углогодичная работа                                      САНАТОРНО-КУРОРТНОЙ ОТРАСЛ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е местных МИНЕРАЛЬНЫХ ВОД в лечебно-профилактических цел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New Century Schoolbook"/>
              </a:rPr>
              <a:t>Основные требования отдыхающих к лечению мин.водам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6" name="Group 41"/>
          <p:cNvGrpSpPr/>
          <p:nvPr/>
        </p:nvGrpSpPr>
        <p:grpSpPr>
          <a:xfrm>
            <a:off x="684360" y="1844640"/>
            <a:ext cx="7615080" cy="4824360"/>
            <a:chOff x="684360" y="1844640"/>
            <a:chExt cx="7615080" cy="4824360"/>
          </a:xfrm>
        </p:grpSpPr>
        <p:sp>
          <p:nvSpPr>
            <p:cNvPr id="107" name="Line 38"/>
            <p:cNvSpPr/>
            <p:nvPr/>
          </p:nvSpPr>
          <p:spPr>
            <a:xfrm>
              <a:off x="4500720" y="4869000"/>
              <a:ext cx="0" cy="50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Line 32"/>
            <p:cNvSpPr/>
            <p:nvPr/>
          </p:nvSpPr>
          <p:spPr>
            <a:xfrm>
              <a:off x="2124000" y="3068640"/>
              <a:ext cx="1224000" cy="863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Line 33"/>
            <p:cNvSpPr/>
            <p:nvPr/>
          </p:nvSpPr>
          <p:spPr>
            <a:xfrm flipH="1">
              <a:off x="5651280" y="3068640"/>
              <a:ext cx="1152360" cy="863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0" name="Group 35"/>
            <p:cNvGrpSpPr/>
            <p:nvPr/>
          </p:nvGrpSpPr>
          <p:grpSpPr>
            <a:xfrm>
              <a:off x="684360" y="1844640"/>
              <a:ext cx="3151080" cy="1295280"/>
              <a:chOff x="684360" y="1844640"/>
              <a:chExt cx="3151080" cy="1295280"/>
            </a:xfrm>
          </p:grpSpPr>
          <p:sp>
            <p:nvSpPr>
              <p:cNvPr id="111" name="Oval 29"/>
              <p:cNvSpPr/>
              <p:nvPr/>
            </p:nvSpPr>
            <p:spPr>
              <a:xfrm>
                <a:off x="1260360" y="1844640"/>
                <a:ext cx="2016360" cy="129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Oval 21"/>
              <p:cNvSpPr/>
              <p:nvPr/>
            </p:nvSpPr>
            <p:spPr>
              <a:xfrm>
                <a:off x="684360" y="2154240"/>
                <a:ext cx="3151080" cy="585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100" spc="-1" strike="noStrike">
                    <a:solidFill>
                      <a:srgbClr val="ff5050"/>
                    </a:solidFill>
                    <a:latin typeface="Tahoma"/>
                  </a:rPr>
                  <a:t>КАЧЕСТВО</a:t>
                </a:r>
                <a:endParaRPr b="0" lang="en-US" sz="2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3" name="Group 36"/>
            <p:cNvGrpSpPr/>
            <p:nvPr/>
          </p:nvGrpSpPr>
          <p:grpSpPr>
            <a:xfrm>
              <a:off x="5148360" y="1844640"/>
              <a:ext cx="3151080" cy="1295280"/>
              <a:chOff x="5148360" y="1844640"/>
              <a:chExt cx="3151080" cy="1295280"/>
            </a:xfrm>
          </p:grpSpPr>
          <p:sp>
            <p:nvSpPr>
              <p:cNvPr id="114" name="Oval 23"/>
              <p:cNvSpPr/>
              <p:nvPr/>
            </p:nvSpPr>
            <p:spPr>
              <a:xfrm>
                <a:off x="5724360" y="1844640"/>
                <a:ext cx="2016360" cy="129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Oval 24"/>
              <p:cNvSpPr/>
              <p:nvPr/>
            </p:nvSpPr>
            <p:spPr>
              <a:xfrm>
                <a:off x="5148360" y="2226960"/>
                <a:ext cx="3151080" cy="585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100" spc="-1" strike="noStrike">
                    <a:solidFill>
                      <a:srgbClr val="ff5050"/>
                    </a:solidFill>
                    <a:latin typeface="Tahoma"/>
                  </a:rPr>
                  <a:t>СТОИМОСТЬ</a:t>
                </a:r>
                <a:endParaRPr b="0" lang="en-US" sz="2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6" name="Group 40"/>
            <p:cNvGrpSpPr/>
            <p:nvPr/>
          </p:nvGrpSpPr>
          <p:grpSpPr>
            <a:xfrm>
              <a:off x="2556000" y="2637000"/>
              <a:ext cx="4032000" cy="2395440"/>
              <a:chOff x="2556000" y="2637000"/>
              <a:chExt cx="4032000" cy="2395440"/>
            </a:xfrm>
          </p:grpSpPr>
          <p:sp>
            <p:nvSpPr>
              <p:cNvPr id="117" name="Oval 26"/>
              <p:cNvSpPr/>
              <p:nvPr/>
            </p:nvSpPr>
            <p:spPr>
              <a:xfrm>
                <a:off x="2843280" y="2852640"/>
                <a:ext cx="3311280" cy="2016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Oval 25"/>
              <p:cNvSpPr/>
              <p:nvPr/>
            </p:nvSpPr>
            <p:spPr>
              <a:xfrm>
                <a:off x="2556000" y="2637000"/>
                <a:ext cx="4032000" cy="2395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100" spc="-1" strike="noStrike">
                    <a:solidFill>
                      <a:srgbClr val="ff5050"/>
                    </a:solidFill>
                    <a:latin typeface="Tahoma"/>
                  </a:rPr>
                  <a:t>Лечение и профилактика наиболее распространенных заболеваний</a:t>
                </a:r>
                <a:endParaRPr b="0" lang="en-US" sz="2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9" name="Group 34"/>
            <p:cNvGrpSpPr/>
            <p:nvPr/>
          </p:nvGrpSpPr>
          <p:grpSpPr>
            <a:xfrm>
              <a:off x="2933640" y="5229360"/>
              <a:ext cx="3151080" cy="1439640"/>
              <a:chOff x="2933640" y="5229360"/>
              <a:chExt cx="3151080" cy="1439640"/>
            </a:xfrm>
          </p:grpSpPr>
          <p:sp>
            <p:nvSpPr>
              <p:cNvPr id="120" name="Oval 27"/>
              <p:cNvSpPr/>
              <p:nvPr/>
            </p:nvSpPr>
            <p:spPr>
              <a:xfrm>
                <a:off x="3348000" y="5229360"/>
                <a:ext cx="2303640" cy="143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Oval 28"/>
              <p:cNvSpPr/>
              <p:nvPr/>
            </p:nvSpPr>
            <p:spPr>
              <a:xfrm>
                <a:off x="2933640" y="5597280"/>
                <a:ext cx="3151080" cy="670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500" spc="-1" strike="noStrike">
                    <a:solidFill>
                      <a:srgbClr val="ff5050"/>
                    </a:solidFill>
                    <a:latin typeface="Tahoma"/>
                  </a:rPr>
                  <a:t>УСЛУГА</a:t>
                </a:r>
                <a:endParaRPr b="0" lang="en-US" sz="25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64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New Century Schoolbook"/>
              </a:rPr>
              <a:t>УНИКАЛЬНОСТЬ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New Century Schoolbook"/>
              </a:rPr>
              <a:t>минеральных вод курорта Соч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ЛЕЧЕБНЫЕ минеральные вод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«ЧВИЖЕПСЕ», «СОЧИНСКАЯ»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ем по назначению специалиста при железодефицитной анемии, заболеваниях органов пищеварения и сердечно-сосудистой системы, иммунодефицитных состояниях и др.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ЛЕЧЕБНО-СТОЛОВЫЕ мин. воды –</a:t>
            </a: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 «ПЛАСТУНСКАЯ», «ЛАЗАРЕВСКА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пускается самостоятельный приё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99"/>
                </a:solidFill>
                <a:latin typeface="New Century Schoolbook"/>
              </a:rPr>
              <a:t>БЮВЕТ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от французского – стойка, буфе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АЛЬНЕОТЕХНИЧЕСКОЕ УСТРОЙСТВО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едназначенное для питьевого использования минеральной воды в санаторно-курортных учреждения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беспечивает сохранение естественного состава мин.воды и предохраняет её от загрязнения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8:17:59Z</dcterms:created>
  <dc:creator>Татьяна</dc:creator>
  <dc:description/>
  <dc:language>en-US</dc:language>
  <cp:lastModifiedBy>user</cp:lastModifiedBy>
  <dcterms:modified xsi:type="dcterms:W3CDTF">2021-06-01T10:53:39Z</dcterms:modified>
  <cp:revision>44</cp:revision>
  <dc:subject/>
  <dc:title>Слайд 1</dc:title>
</cp:coreProperties>
</file>