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6DA-0CB7-430B-97FA-E6D04A8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A86-89D1-4F99-BA6B-5CACEBE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E3A-D221-4505-AA91-9D2B4295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836-4E6D-4E21-8D0B-10211D57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C64C-CC3B-4B2B-8A4F-29614F58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751-A716-4BB5-A8EB-92C008C8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2FE6-CFFB-4839-8D76-5C4E33FE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660C-0FE7-4C98-A9B1-D9B4F58A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287-19D3-4D7D-930B-088E387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636-E7CF-4DCD-ADD2-1357E4B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A573-EBDA-4ECD-B996-41163DF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BA4-2D77-4779-B126-F3269FC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5FF-7AAA-494A-85B4-4FFBCEA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EEDA-254E-437D-8F9A-7C2C706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42D-58C1-44EC-91C9-9B621A8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67CF-B3B7-4F52-8705-6AD11D28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2301-CBDD-41B0-A356-7268E5C6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62D-879F-423D-AAB4-794465D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758-82E6-4904-8AC6-7A8ACC6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B45-CE9B-4799-9EE4-56F0CFFC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5E2-F27C-4811-976E-CA8D67B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B7C-1988-4088-AC86-987EF24B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7A2-2B43-4FDD-ABF0-F89D485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BBE-099A-48CB-9ED6-C5F1C881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149D-F307-423F-81C8-4ED8C597623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5087-648A-421F-AD55-A77B27BC84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57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New Century Schoolbook"/>
              </a:rPr>
              <a:t>Трудности при организации бюветов и пути их преодол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51"/>
              </a:spcBef>
              <a:buClr>
                <a:srgbClr val="ffff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дооценка роли питьевого лечения в санаторно-курортном процессе –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ИЗУЧЕНИЕ И ВНЕДРЕНИЕ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существующего опыта использования мин.вод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51"/>
              </a:spcBef>
              <a:buClr>
                <a:srgbClr val="ffff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приспособленность санаторно-курортной базы (отсутствие помещения, персонала и т.д.) –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ЧАСТИЧНАЯ ПЕРЕПЛАНИРОВКА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ВЫДЕЛЕНИЕ МЕДПЕРСОНАЛА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для обслуживания бювет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8:17:59Z</dcterms:created>
  <dc:creator>Татьяна</dc:creator>
  <dc:description/>
  <dc:language>en-US</dc:language>
  <cp:lastModifiedBy>км</cp:lastModifiedBy>
  <dcterms:modified xsi:type="dcterms:W3CDTF">2016-05-27T06:19:03Z</dcterms:modified>
  <cp:revision>41</cp:revision>
  <dc:subject/>
  <dc:title>Слайд 1</dc:title>
</cp:coreProperties>
</file>